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E058-98A9-4A95-A9DD-92FA03666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Čuvar mesta za broj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74D4-EFCF-4D0C-8C25-B35878016B58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3C6D-C8A4-4C59-9D8A-C4F4A4C89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2680-7854-4D42-8817-699B20C1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D9D-57BA-4DD6-B0DF-FAC13599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CFE-F87A-4734-845A-51D96693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D4A3-6C2A-4E34-A01F-DE331469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D952-E21A-48A9-A042-8E896E00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E023-508E-4A04-B498-AA2735DD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FEB7-6D3C-4B2E-B50A-BA589CDA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CC77-AC61-444E-B25F-26F100DB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C943-6E6B-436A-83C6-0FFF25CB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5C11-483F-4263-AAEE-4AE9ED53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3BF7-70CB-44AC-B935-7E760ED8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F645-6B4F-4003-82C2-4EA34D4D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F552-F62D-409F-9F68-7C3EA7C2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0608-48D2-4131-AECE-9F9DF094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F73D-6D79-4CCB-8427-83CBB1E57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839F-D195-400C-BE7C-1A4498DF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1F0512-FE6C-49BC-98A0-A9D1364543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52A871-FA7B-4E70-AEC6-FD8F044593D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0EE7D6-8514-44AA-AB41-7FED133DF04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0FA940-0BF5-4B14-B88E-1061CE01597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A66E5-9755-42B7-B2BF-CB87D08577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EC6E-E04E-4A70-9245-43AFB07F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53C0D2-2162-4CF3-A13F-957DAFA9F5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0EF8DD-AA3F-4D95-85A5-C6788FF67C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6B9EB1-0F82-429E-B564-0DB77621BD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9C40D4-DD43-461E-9C14-05AEFDE776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AC7163-D2E2-48F3-A753-3511225C206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011458-943B-44B5-BBD1-86AE6881AD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E0CB93-5094-45EE-9AF5-F21C3D8B5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C5C-1DBC-40EA-B0A3-CD81E672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C39-5EBF-444B-BF39-828F6AF5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2E30-06DD-42E7-A947-C8F503A9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EBE-5635-4977-BB1E-A7564E66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D66E-3258-487C-BBA6-805F69DC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ED2D-120F-46FF-9318-1867FC2D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27A4-86E1-43DE-B37A-58C5319DA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CC62-D1B9-497E-B50A-DD6BC4779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F2B9-3AA0-45E3-9502-C48C873AFE29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0066"/>
                </a:solidFill>
                <a:latin typeface="Tahoma"/>
              </a:rPr>
              <a:t>ФИЗИКАЛНА ТЕРАПИЈА КОД ПОВРЕДА МЕКИХ ТКИВА ГОРЊЕГ ЕКСТРЕМИТЕТА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fr-FR" sz="2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6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9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Луксације (ишчашења) зглобо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38080" y="1600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дислокације зглобних површина под дејством прекомерне сил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а слика: дефомација зглоба, бол и ограничена покретљивос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елимичне луксације или сублуксације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елимични контакт зглобних површи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тпуна луксација-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ислокација зглобних површина, уз потпуни губитак међусобног контак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B9A8-0888-4622-B765-86BDFB33BF2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Руптуре мишића и тетива (парцијалне или комплетне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ректним или индиректиним дејством си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арцијална руптур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јак бол, престанак сваке активности, потпуна функција мишића или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ти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Комплетна руптур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бол и тренутан губитак функције мишића или тетиве, локална импресија на месту прекида мишић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3CEF-100E-4015-B792-B6681E4112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Повреде мишићних фас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 изоловане или удружене са мишићним лезиј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дејстом директне силе (ударац) у контрахован миши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изоловане повреде фасције може доћи до пролапса мишић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CEE8-9E43-404D-9DD5-3DFBD5FD75B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Дијагноз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мнеза: механизам и време настанка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прегле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пунска дијагност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E984-4174-44B4-BB2E-C92EB4B4440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ПАТОГЕНЕЗ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Фаза запаљенске реа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Фаза опоравка ткива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</a:rPr>
              <a:t> (репарациј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Фаза ремоделир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A873-F8E4-4F92-9DE9-0B0086BAA56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аза запаљенске реак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азвија се на месту оштећења меког ткива неколико часова после повред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аљење настаје под дејством хемијских материја из изумрлих ћелија. Вазодилатација је праћена екстравазацијом и стварањем тзв инфламаторног ексудата богатог беланчевинама и ћелијама запаљ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ибриноген се под дејством ткивног тромбопластина претвара у фибри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аје 3-5 д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C2B73-45B3-49F5-AD72-D9B84A52E5F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аза запаљенске реакц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линичке карактеристи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црвенило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rub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 повишена лок.температура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col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. бол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dol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. локални оток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tumor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5. поремећај функције органа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functio laese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F01C-1A5F-4053-B299-51F3CDCAC73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аза опоравка ткива</a:t>
            </a:r>
            <a:r>
              <a:rPr b="0" lang="sr-CS" sz="3600" spc="-1" strike="noStrike">
                <a:solidFill>
                  <a:srgbClr val="660066"/>
                </a:solidFill>
                <a:latin typeface="Tahoma"/>
              </a:rPr>
              <a:t> (репарације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очиње још током прве фазе, након 3 дана од повред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ликује се пролиферацијом капиларне мреже, ствара се гранулационо ткив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вара се ожиљно ткиво од фиброцита (колагена влакн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ормирање ожиљка се завршава након 3 недеље (има тенденцију сталног скраћив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A986-7805-4B30-B26F-1E756C9267D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аза ремоделирањ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трајати до годину дана и виш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лагена влакна добијају у чврстини и усмерењ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AE81-FF3A-4233-9847-C17AE4E4C49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ОПШТИ ПРИНЦИПИ ФИЗИКАЛНОГ ТРЕТМАНА И РЕХАБИЛИТАЦИЈЕ БОЛЕСНИКА СА ПОВРЕДОМ МЕКИХ ТКИВ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Локомоторни систем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338040" indent="-338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ине: кости, зглобови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8040" indent="-338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игаменти, мишићи и тетиве, живци и крвни судови, поткожно ткиво и кож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8040" indent="-338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е могу настати дејством директне и    индиректне механичке силе која прелаз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8040" indent="-3380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раницу еластичне деформа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8040" indent="-338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имо их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8040" indent="-338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овреде к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8040" indent="-3380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повреде меких тк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575B-6F0C-4CEE-BDA0-FE6D75CF6B6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12952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457360" indent="-45720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R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st – мировањ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ce - лед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C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ompression - компрес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lnSpc>
                <a:spcPct val="2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evation - елевација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457360" indent="-45720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6B1C-DDB2-4F0A-8AF0-0CA7A512491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Циљеви физикалне терап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У првој фаз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узбијање локаног запаљ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ње бо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венција ширења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ење крварења и ото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меном физикалне терапије се смањује секундарна фиброза и обезбеђује квалитетно зарастање повређеног тки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3760" indent="-3837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6A7A-BE2F-4E95-B2A1-C3AEDA1B0D8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Циљеви физикалне терап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Циљ примењене физикалне тх у другој фаз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брзање репараторних процеса одн ставарање оптималних услова за опоравак повређеног тк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Циљ треће фаз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ксимални функционални опорава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атак флексибилност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ишићне снаге и издржљивости, брзине и координац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кардиореспираторне функ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B606-6939-4BD9-95FD-8525CBA3D1F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оком имобилизациј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КТХ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ометријске контракције за повређени сегмент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е за слободне сегмент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бука ходу уз помоћ помага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ИМ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ABA8-5BA9-4911-AC0A-F281ED16E22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 у запаљенској фази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едикаментозна терапија у запаљенској фаз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САИЛ,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Chymoral for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Sinedol ung, Hepathrombin g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Р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Апликација пешкира претходно потопљеног у хладну (може и слана вода) воду на сегмент тела 30-60 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, пауза 3-5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еса са ледом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Имерзиј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Криомасаж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Лако испарљиве течнос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Cryo cuff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метод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B677-0BCD-4EDF-8332-8EEDE21E53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запаљенској фаз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Примена компресивног заво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користи се еластични завој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редукције отока и крвар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љан, али не превелик притисак (посматра се дистални део повређеног сегмент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Елевација екстремитет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дистални сегменти екстремитета изнад хоризонталне равн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смањења ото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повреде ДЕ елевација изнад нивоа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повреде ГЕ изнад нивоа срц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3E4B-FA40-49EB-890C-19E32E1265A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запаљенској фаз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ЛАКШИХ ПОВРЕДА – изометријске вежбе за флексоре,екстензоре и абдукторе. Одржавју контрактилност мишића, спречава настанка атрофије. Побољшава се циркулац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ТЕЖИХ ПОВРЕДА – само изометријск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ДИСАЊА-боља оксигенација тки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ЗА СЛОБОДНЕ СЕГМЕНТЕ ЕКСТРЕМИТЕТА И ТРУПА- повећава се снага, брзина, елстичност и издржљивост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D426-8297-45FA-9123-75D1C65CECD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даци примењене физикалне терап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обољшање снабдевања крвљ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тклањање запаљенског ектраваз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побољшање фибробластичне репа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A6E7-F9CF-4445-89A3-17AF734C95D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ТЕРМОТЕРАПИЈА –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и до вазодилатације (активне хиперемиј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след хиперемије убрзава се циркулација и бржа је ресорпција екстраваз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ва се истегљивост колагена везивног ткива (тиме се поб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љшава ефекат К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налгетски ефека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75AA-B55D-4074-90E6-B7DB1E466E6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ЕЛЕКТР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дукове стру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Н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С (сп облик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E46E-556A-4A28-81BF-54311E85BB2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Локомоторни систе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комоторни систем човека представља човеков зглобно-коштано-мишићни систем који му омогућује промену положаја у простору и све остале вољне механичке покрет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ај систем садржи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асивн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и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ктивни део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асивни део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ог система чине кости и зглобови, а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ктивни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келетни мишић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5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AFF07-118A-4236-BD5E-0FBB43E16C1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6" name="Picture 5" descr="C:\Users\User\Desktop\преузимање.jpg"/>
          <p:cNvPicPr/>
          <p:nvPr/>
        </p:nvPicPr>
        <p:blipFill>
          <a:blip r:embed="rId4"/>
          <a:stretch/>
        </p:blipFill>
        <p:spPr>
          <a:xfrm>
            <a:off x="6324480" y="4343400"/>
            <a:ext cx="19623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38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УЛТРАЗВУЧНА МАСАЖ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микромасажа на ћелијском ниво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термичко дејство – повећава се сензибилитет колагена и побољшан је ефекат ктх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УЛТРАЉУБИЧАСТИ ЗРАЦ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аког дана по једна б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за виш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ЛАСЕРО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МАГНЕТОТЕРАПИЈА-ИМП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ВАКУСАК ТЕРАПИЈА-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побарична тх (капа, рука, чизм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3F2F-A687-4369-9116-6CE5A277B9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ПРИМЕНА  ВАСКУЛАТО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2-3 дана се започиње ктх програм по престанку бол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ЗОМЕТРИЈСК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НАМИЧКЕ ВЕЖБЕ- када болесник почне да толерише изометријс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о-потпомогнуте, активне и активне са отпором према функционалном статус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јачања стабилизације труп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ачање слободних сегмената и опште конди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84FE-1C00-45BC-A414-BBEC8B701B9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грам оспособљавања обухват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вежбе за обим покрета у зглоб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вежбе јачања мишића стабилизатора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тренинг проприоцепције или балан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овратак АД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12C9-E1EF-4494-ADAA-14209372ED7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пар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ДРО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топли облог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наизменичне куп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вртложне куп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одводна 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подводн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3C9D-6C2E-40EB-B421-F473DCC648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моделира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физикалних агенаса најчешће се корист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Континуирани 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М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Ласе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Елект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CD8A-389F-4961-9D15-CB9A0518CE0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 у фази ремоделирањ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иљ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обољшање локалне микроциркул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овећање еластичности колагених влакана у повређеним ткив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умањити инфламаторни одговор меких ткива на оптерећ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ебно се ставља акценат на ктх и хидрокинезитерап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ценат је на функционалном опоравк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C994-8073-4C5A-9D16-73DB516E79C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ОТЕРАПЕУТСКИ ПРЕГЛЕД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серв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лп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ону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мишићне снаг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обим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нализа трофи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укционална процена кроз специфичне тесто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6B21-7FC1-442B-B079-E6E4427EC62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0458c"/>
                </a:solidFill>
                <a:latin typeface="Tahoma"/>
              </a:rPr>
              <a:t>МЕКОТКИВНЕ ПОВРЕДЕ РАМЕНОГ ПОЈАС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ме је зглоб састављен од кости, мишића, тетива и лигамена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тиве су ткиво које припаја мишиће за кости. Оне помажу мишићима да покрећу раме. Улога лигамената је да држе кости заједно и тиме доприносе стабилности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ме чине три кости: лопатица, горњи део надлактице и кључна кос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итав рамени зглоб окружен је зглобном капсулом испуњеном течношћу која подмазује зглоб и чини да он функциониш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DCDE-175D-4C8C-A7BF-7D6DB6FD1B3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Мекоткивне повреде раменог појас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бог своје сложености се често назива и РАМЕНИ КОМПЛЕКС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спадање само једног од фактора стабилности доводи но нестабилног раме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Зглоб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рамена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највулнерабилнији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на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ГЕ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јер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у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натомска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грађа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омогућује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аксималну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кретљивост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ли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цену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жртвовања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табилности</a:t>
            </a:r>
            <a:r>
              <a:rPr b="1" lang="sl-SI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2C974-1C7C-4A37-85C2-38EBFD3D127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ПОВРЕДЕ МЕКИХ ТКИВ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овреде и обољења рамен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индром болног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скид тетиве ротаторне манжет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стабилност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ритација тетиве бицеп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мрзнуто рам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ломи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ртритис рам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2C74-61BB-43FE-BCFA-47DA08E4A6C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 algn="just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е меких ткива ГХ зглоба варирају од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12880" indent="-3693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ких дисторзија, прек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12880" indent="-3693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нтано репонираних сублуксација и луксација, до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812880" indent="-3693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шких ишчашења раменог зглоба са већим оштећењима и прекидима капсуле, крвних судова, лигамената и околних мишић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07A7-D191-4ACD-B893-899ABDA6199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66"/>
                </a:solidFill>
                <a:latin typeface="Tahoma"/>
              </a:rPr>
              <a:t>Акутне повреде мишића рам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ускулотендинозне повреде рамена спортиста и ту спадају првенствено повреде м. делтоидеуса, м. трицепса, м. пекторалиса мајора и тетиве м. трапезиу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а је најчешће последица дирекног ударца или екцесивни покрет при механизму баца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е повреде су чешће код спортиста са постуралним деформитето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атички положај тела изазива велико трошење мишића и лигамената и тако временом настају повред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4A28-C860-465C-A043-04D2939FB5F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ЛУКСАЦИЈА РАМЕНОГ ЗГЛОБ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а луксација код човека је предње ишчашење гленохумералног зглоб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д на опружену руку која се налази у абдукцији, спољашњој ротацији и екстенз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C832-3F78-4E5B-90B0-02984FB1864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ЛУКСАЦИЈА РАМЕНОГ ЗГЛОБ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имати акутну и хроничну етиологиј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стабилност хумероскапуларног зглоба дели се у три групе и то: према етиологији, правцу и тип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. Тип-луксац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1. сублуксација и 2. сублуксација – лукс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Б. Правац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1. предње, 2. задње 3. у више праваца: а) предње – задње, б) задње – предње и ц) предње – доње – зад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Ц. Етиолог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1. трауматске, 2. атрауматске и 3. вољне, невољне, конгениталне, неуромускулар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8F68-237D-4858-81E2-A209711C139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ђена особа се појављује придржавајући повређену руку у позицији абдукције и спољашње ротац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ва хумеруса се палпира ван гленоид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сутна је празнина испод акромио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. аксилар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ТГ рамена да би се искључил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42A3-751C-4A26-9B4C-A44DF033D5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Акутна предња луксац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интракапсуларне луксације са дезинсерцијом капсуле и лабрума настају код младих, а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58c"/>
                </a:solidFill>
                <a:latin typeface="Tahoma"/>
              </a:rPr>
              <a:t>луксације са руптуром капсуле и расцепима м.субскапулариса код старијих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just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х. Десаултов завој који спречава абдукцију и спољну ротацију на 4-6 недеља или Десаултов завој појачан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ипсом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0972-DE25-442C-B631-4D2195524A0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ЗАДЊА ЛУКСАЦИЈА РАМ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37720" y="19051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етка повред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Често се превиди (и до 80 % 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линичка слика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иксираним положајем надлактице у положају аддукције и унутрашње ро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019E-3E1F-48DD-A60E-949173C0022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Сублуксације гленохуморалног зглоб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е најчешће падом на испружену руку, или при бацању лопте, али тада је зглоб већ у хроничној фази обољењ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ублуксација је само увод у луксацију рам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правцу разликујемо три типа: предњи, задњи и више правц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апија је конзерватив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C746-773C-41EC-814C-6811CA5A702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Луксација стерноклавикуларног зглоб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шчашење настаје при паду на надлактицу, деловањем компресивне силе, која преко уздужне осовине клавикуле доводи до померања и руптурирања чауре и исклизавања клавикуле из плитке чашиц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ечење је конзервати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F1A1-52C1-42D5-9007-FA38985C31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ВРЕДЕ МЕКИХ ТКИ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НДОГЕ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- синдроми пренапрез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ГЗОГЕ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– настају деловање спољашње силе или аген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 у з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исности о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оштећења интегритета кож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отворе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затворе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7D93-103D-4889-A35B-6522EAA9665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Сyндрома м.супраспинатуса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Руптура ротаторне капе зглоба рамена</a:t>
            </a:r>
            <a:br>
              <a:rPr sz="20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Хронични импинџмент синдром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ебан механизам повређивања који се јавља у зглобу рамена представља импиџмент синдр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мпиџмент представља сударање структура у субакромијалном простору (врло узак простор испод акромиона). Јавља се код покрета руке изнад глав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лази до контакта хумеруса и акромиона (коштаног избочења лопатице) и околних лигамената. При њиховом сударању, бивају притиснуте тетиве ротаторне манжетне и тетива дуге главе бицеп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2CED-122D-4A91-86EC-18013EA4181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зроци су: дисбаланс мишић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ољашњих и унутрашњих ротатор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мена, недовољна истегнутост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руктура рамена, деформација акромиона 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естабилност зглоба рам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Хроничан импиџмент доводи до иритације тих структура: тендинитиса ротатора рамена или тетиве дуге главе бицеп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о реакција на импиџмент може настати упала бурзе (бурзитис). Реакција бурзе представља одбрамбену реак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4FF5-6B0B-425E-B0CB-2EC1C041671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Субакромиални бурзитис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имтоми су бол, при покрету руке (посебно подизање) и на притисак, као и ноћни бол. Терапија: мировање, антиреуматик, физикална терапиј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упорних бурзитиса примењују се блокаде кортикостероид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каснијој рехабилитацији  раде се вежбе за јачање ротатора рамена и корекција техник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рехабилитацији ове повреде теба избегавати вежбе подизања изнад и иза главе, као и исте положаје руке при спавањ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6C41-55C3-4F24-AEBB-140C47FB3A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Руптура тетиве дуге главе бицеп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уцање тетиве дуге главе бицепса углавном се јавља код старијих спортиста и дегенеративне је природ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млађих спортиста она је последица хроничног импиџмента и нелеченог тендинити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имптоми су: изненадан оштар бол у пределу рамена, осећај пуцања, деформитет бицепса (знак Попаја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ечење је хируршко код младих спортиста, код старијих је без функционалног знача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0E88-A263-49FF-9A1D-69720658C94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акутне повреде меких ткива рамена су повреде мишића и тети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утне повреде мишића рамена су мускулотендинозне повреде рамена спортис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долази до повреда следећих мишића:  м. делтоидеуса, м. трицепса, м. пекторалиса мајора и тетиве м. трапезиус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а је углавном последица дирекног ударца или наглог покрета истезања при механизму баца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8BCD-BDB8-4B78-9657-85701BD913A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ahoma"/>
              </a:rPr>
              <a:t>Пливачко рам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рактеристична повреда рамен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Јавља се код пливача где долази до истегнућа, или мале напрслине супраспиналног мишића. Паралелно долази до истегнућа (или напрснућа ротатора испреплетане групе мишића укључујући и супраспинални мишић) тетива и капсуле која окружује раме и даје му стабилност на кугластом зглоб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ред пливања и ватерпола, пливачко раме се јавља код кошаркаша, рукометаша, тенисера, рагбиста, а често га срећемо код зидара, сликара, као и код неких фабричких послова и радова у кућ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C6BF-A2CA-4132-9FD4-B2B913B1035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0458c"/>
                </a:solidFill>
                <a:latin typeface="Tahoma"/>
              </a:rPr>
              <a:t>МЕКОТКИВНЕ ПОВРЕДЕ НАДЛАКТИЦЕ, ЛАКТА, ПОДЛАКТИЦ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кат је комплексан зглоб који формирају 3 кости - једна у надлактици и две у подлактиц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анак слој хрскавице прекрива крајеве кости које формирају зглоб лак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иновијална мембрана зглоба производи течност која испуњава шупљине између кости и подмазује зглоб смањујући трење и оштећење кост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F877-6A5D-461F-A352-546A7AF8B2E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акат је изложен повредама и оштећењима, како због своје грађе, тако и због чињенице да је један од већих зглобова на једном од најактивнијих делова тел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су повредама изложене тетиве услед чега може настати тзв. тениски или голферски лакат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о окоштавања лакта (пропадање хрскавице) може доћи услед процеса старења или након повред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е за последицу могу имати укоченост или нестабилност лак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9CC7-B1D8-4ED5-B84F-F44361E8B33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Синдроми тениског и голферског лак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код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штећења тетива које учествују у грађи лакта. Тетиву чини ткиво која припаја мишић за кост. Постоји неколико специфичних проблема када су у питању тетиве. Заједнички назив за ове проблеме је тендинитис 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олферски лакат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edial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epico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 је стање које изазива бол на месту где се тетиве подлактице спајају са коштаним делом на ун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ашњој страни лакта. Бол се такође може проширити на подлактицу и ручни зглоб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ниски лакат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lat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pic.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 бол јавља на спољашњој страни лакта, на месту припоја тетива опружача шаке и к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10FA-F211-46D2-9183-2345AA6D485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ПОВРЕДЕ МЕКИХ ТКИ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онтузије (нагњечења)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мишића, тетива, зглобов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и нера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истензије (истегнућа) мишића и лигам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Дисторзије (уганућа)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Луксације (ишчашења)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уптуре мишића и тетива (парцијалне или комплетн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овреде мишићних фас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1199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екција</a:t>
            </a:r>
            <a:r>
              <a:rPr b="1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мишића и тети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7DB0-AFB4-463E-958A-8EE7CD4FF9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Руптура дисталне тетиве трицеп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стаје при изразитом оптерећењу руке са савијеним лактом, као при подизању терета, или приликом пада на рук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ликом повреде може доћи до отргнућа саме тетиве са припоја за кост што називамо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уптур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или се може отргнути мањи комадић кости на који се хвата тетива што називамо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вулзија тетив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д настанка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реде јавља се изненадна, јака бол уз понекад чујни феномен пуцања те појава хематома уз слабост екстензије (испружања) лак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44991-2E4F-444B-8F5C-3E742E8CF4C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Руптура дисталне тетиве трицеп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762120" y="15238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авља се код ексцентричне контракције (оптерећење код којег долази до напињања – контракције мишића уз његово издуживање) мишића при јаком оптерећењу руке са савијеним лактом као при подизању терета или утега или приликом пада на рук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е јавља код мушкараца у 30-40 годинама живота, обично на доминантној руц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2B09-F812-424A-A6E5-F9DEA139990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Клиничка сл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761760" y="16002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д настане руптура болесници обично при подизању терета осете изненадну бол, уз понекад чујан феномен пуцања и осећај да је нешто пукло у лак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тога отежано испружају лакат због болова, а може се у подручју лакта појавити оток и хематом, а често је видљиво и повлачење мишића према рамену уз видљив и палпабилан дефект на месту руптуре тети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DD8F-4BE8-4FE4-A702-3BAA10631EE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Руптура дисталне тетиве бицеп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91404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е при изразитом оптерећењу руке са савијеним лактом, као при подизању тер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и повреди се јавља изненадан бол уз понекад чујни феномен пуцања, појава хематома уз слабост супинације подлактице и слабост флексије лак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еда се најчешће јавља код мушкараца између 40 и 60 годи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F2AC-0ACA-4C84-8DA6-BC4B100F44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Руптура дисталне тетиве бицепс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д настане руптура болесници обично при подизању терета осете изненадну бол, уз понекад чујан феномен пуцања и осећај да је нешто пукло у лак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тога не могу савити лакат због болова, а може се у подручју лакта појавити от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и хемат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г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преглед, Уз, РТГ , М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A8B6-1082-4740-8B3F-3DFE465C953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Ишчашења лакта</a:t>
            </a:r>
            <a:br>
              <a:rPr sz="4400"/>
            </a:b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Luxatio cubit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 algn="just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шчашење лакта је на другом месту по учесталости после ишчашења у раменом зглоб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 algn="just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 algn="just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дислокацији  зглобних делова  луксације лакта се деле на: задње, предње, латералне и медијал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 algn="just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 algn="just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су задње луксације лакта које настају дејством директне силе на лакат при паду на испружену рук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B8CF-F811-42EF-87E1-D9A20060BF8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Ишчашења лакта</a:t>
            </a:r>
            <a:br>
              <a:rPr sz="4400"/>
            </a:b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Luxatio cubit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761760" y="1676520"/>
            <a:ext cx="510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е кости, само радијус или само ул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 задња и задње-латерална 80 до 90%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ЛИНИЧКА СЛИК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5ст  флексија подлактице; релативно скраћење; олекранон проминира позади; кубитална фоса испуњена дист. хумерус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-процена НВ; удружен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D0CA-7965-43A2-91C3-D69B57F1E08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Ишчашења лакта</a:t>
            </a:r>
            <a:br>
              <a:rPr sz="4400"/>
            </a:br>
            <a:r>
              <a:rPr b="0" i="1" lang="en-US" sz="3600" spc="-1" strike="noStrike">
                <a:solidFill>
                  <a:srgbClr val="660066"/>
                </a:solidFill>
                <a:latin typeface="Tahoma"/>
              </a:rPr>
              <a:t>Luxatio cubiti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стаје при паду на руку испружену у лак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честалост овог повређивања креће се од 25 до 28% свих лукс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ликације услед неадекватног лечења (имобилизација није довољно дуго примењена) појава миозитиса осификан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ублуксација и луксација овог зглоба најчешће се јавља код рвача, џудиста, гимнастичара и у спортовима са лопт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3723-D31B-4FFA-8B0D-2DE24592A4E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Терапија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Репози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мобилизаци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ложај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флекс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90º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редње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ложај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длактиц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о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ра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бич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к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р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едељ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акон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кидањ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мобилиза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рук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реб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ржат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још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едељ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дан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мител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чем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треб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проводит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кт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ежб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лакт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асив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ежб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забрање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BD41A-0F0B-40EA-962A-8AF17E84542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Копликациј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е нерава (н. медијанус и н. улнарис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аскуларне повред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лцификације лигам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yositis ossificans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х: ограничити покрете (шина) док траје оток и осетљивост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Рани оперативни тх је контраиндикован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ндометацин, ниске дозе зрач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2B3A-4724-4A8E-9358-9E80EF50B63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20" name="Picture 5" descr="C:\Users\User\Desktop\преузимање (1).jpg"/>
          <p:cNvPicPr/>
          <p:nvPr/>
        </p:nvPicPr>
        <p:blipFill>
          <a:blip r:embed="rId5"/>
          <a:stretch/>
        </p:blipFill>
        <p:spPr>
          <a:xfrm>
            <a:off x="6734160" y="0"/>
            <a:ext cx="2409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Контузије (нагњечења)</a:t>
            </a:r>
            <a:r>
              <a:rPr b="0" lang="en-GB" sz="36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мишића, тетива, зглобова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и нера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под дејством тупе динамичке сил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се манифестуј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ол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то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вни подлив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граничена функц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лази до оштећења и некрозе повређеног ткива и крвних суд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6437-7BEB-42FF-9446-CF64DA5E978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295280" y="3962520"/>
            <a:ext cx="6553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 algn="just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новни циљ физикалне терапије за време и после скидања имобилизације је савладати обавезно присутне и изражене контрактуре меких ткива у лакт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9B46-B7FD-44D4-BDF9-2C5E8D0AB4A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Бурзитис лак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јчешће се среће код спортиста (тенисера, бацача диска…), чистачица, зидара, радника на траци и других особа чија професија захтева често извођење истих покре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удентски лакат представља упалу бурзе на месту где лакат додирује подлогу приликом ослањања. Ово стање настаје када услед дуготрајног седења и ослањања о сто, на пример приликом учења, долази до притиска на слузну врећицу, а затим и до упал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урза бубри, отиче и јавља се бол који се нарочито испољава притиском на оболело мест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4BF0-083A-41CF-97DD-F13DFD0E4E7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0458c"/>
                </a:solidFill>
                <a:latin typeface="Tahoma"/>
              </a:rPr>
              <a:t>МЕКОТКИВНЕ ПОВРЕДЕ ШАК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сторзије су честа повреда у овом региону. Иако одају утисак лаке повреде, могу понекад да се лече дужи временски период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сторзије ручног зглоба, настају при претераном латералном стресу, праћене су болом, отоком и ограничењем покрета. Треба увек при овим повредама искључити коштане лезије, прелом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кафоидне кости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ечење се састоји у примени базичних принципа лечења повред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88CA-4DD8-4729-85A2-82E63F115F8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исторзије интерфалангеалних зглобова су најчешће последица деловања бочне сил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што овде нема компезаторне функције лумбрикалних и интеросалних мишића, резидуалне нестабилности могу да поремете функцију прс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F017-A111-4AA1-B7BE-72FA2B024EC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Затворене повреда тетив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љичаст или чекићаст деформитет (Malet finger, baseball finger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еформитет у виду рупице за дугме (Boutonniere, buttonbole deformity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уптура завршног дела флексорног систе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rbus De Querva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itendinitis crepita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ndovaginitis stenosa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кид тетиве дугог опружача пал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7D43-9D56-4B10-9193-CC0B19CE82E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Маљичаст или чекићаст деформитет (Malet finger, baseball finger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ва врста деформитета се најчешће среће код спортиста. Ово се дешава зато што се лонгитудинална сила која делује од врха прста, претвара у акутну флексиону сил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формитет се карактерише тиме што дистална фаланга прста клоне у флексију и не може се активно опружи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колико је фрагмент кости на тетиви мали лечење је неоперати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мобилизација се препоручује у трајању од 3 до 4 недеље, максимум 6 недељ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BA82-9CCE-48DA-A721-B1A1BE02095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Руптура завршног дела флексорног систем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киди флексорних тетива прстију су ретке повреде. Обично су авулзионог типа и јављају се најчешће на дисталним фаланг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а локализација повреде је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IV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прст шаке. Бол, као један од клиничких знакова ове повреде, ирадира ка длану шаке. Терапија је конзервативна и подразумева имобилизацију шаке у функционалном положају 6 до 8 недељ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B01B-1211-4A43-B47A-1C7F8F9762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Morbus De Quervaine </a:t>
            </a:r>
            <a:br>
              <a:rPr sz="3600"/>
            </a:b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(Tendinitis stenosans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3808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ољење није тако често. Карактерише се болом у пределу доњег окрајка радијуса и то нарочито кад се форсирано спречава покрет абдукције палц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апија обољења, уколико су тегобе велике, је оперативна и састоји се у пресецању тетивног омотач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C7A2-878D-4039-B6AC-9DEC3E01652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eritendinitis crepitan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локализације перитендинитиса су следећа подруч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лактица у подручју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extensor carpi radilis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m extensora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 абдуктора палца често код спортиста (веслача и кајакаша, код тенисера, хокејаша и мачевалац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ручје екстензора у карпалним каналима код скијаш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тива дуге главе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biceps brachi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раменом зглоб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9F55-6641-488D-9B97-A3ACC879853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Дистензије (истегнућа) мишића и лигамена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37720" y="1828800"/>
            <a:ext cx="5715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форсирним контракцијама насупрот отпору, снажном контракцијом велике амплитуде или прекомерним истезањем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гу би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истегнућа без видљивог прекида мишићног влакна и крварења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истегнућа са микроруптурама, долази до делимичног прекида појединих мишићних влакана, уз оштећење кс и крварења (настанак хематом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0E51-5FAB-4331-B096-0482A8A8345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1" name="Picture 5" descr="C:\Users\User\Desktop\istegnuce_misica.gif"/>
          <p:cNvPicPr/>
          <p:nvPr/>
        </p:nvPicPr>
        <p:blipFill>
          <a:blip r:embed="rId5"/>
          <a:stretch/>
        </p:blipFill>
        <p:spPr>
          <a:xfrm>
            <a:off x="6762600" y="1752480"/>
            <a:ext cx="2381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ndovaginitis stenosa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зрок повремених блокада клизања тетива кроз тетивне омотаче су фиброзна запаљења омотача(обично у висини метакарпофалангеалних  зглобов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ечење је оператив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EA91-8633-4524-AAC2-162E164B0DD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66"/>
                </a:solidFill>
                <a:latin typeface="Tahoma"/>
              </a:rPr>
              <a:t>Дисторзије (уганућа) зглобов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335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Повреда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капсуле, лигамената, синовије и тетивних припоја. Дејство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грубе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механичке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силе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доводи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до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неконтролисаног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покрета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зглоб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који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прелази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физиолошк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границу</a:t>
            </a:r>
            <a:r>
              <a:rPr b="0" lang="en-US" sz="20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еластичности</a:t>
            </a:r>
            <a:r>
              <a:rPr b="0" lang="sr-CS" sz="2400" spc="-1" strike="noStrike">
                <a:solidFill>
                  <a:srgbClr val="002060"/>
                </a:solidFill>
                <a:latin typeface="Tahoma"/>
                <a:ea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Tahoma"/>
                <a:ea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I </a:t>
            </a:r>
            <a:r>
              <a:rPr b="0" lang="sr-RS" sz="2400" spc="-1" strike="noStrike">
                <a:solidFill>
                  <a:srgbClr val="ff0000"/>
                </a:solidFill>
                <a:latin typeface="Tahoma"/>
                <a:ea typeface="Arial"/>
              </a:rPr>
              <a:t>ст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  <a:ea typeface="Arial"/>
              </a:rPr>
              <a:t>епен- елонгациона дистор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 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Истезање лиг.апарата капсуле и синовије, без прекида анатомског интегитета лигамена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II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  <a:ea typeface="Arial"/>
              </a:rPr>
              <a:t>степен- лацерациона дистор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Tahoma"/>
                <a:ea typeface="Arial"/>
              </a:rPr>
              <a:t>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Долази до делимичног прекида континуитета лиг. Ситних кс, без израженог оштећења функције. Хематом настаје брзо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ahoma"/>
                <a:ea typeface="Arial"/>
              </a:rPr>
              <a:t>III </a:t>
            </a:r>
            <a:r>
              <a:rPr b="0" lang="sr-CS" sz="2400" spc="-1" strike="noStrike">
                <a:solidFill>
                  <a:srgbClr val="ff0000"/>
                </a:solidFill>
                <a:latin typeface="Tahoma"/>
                <a:ea typeface="Arial"/>
              </a:rPr>
              <a:t>степен - руптурациона дисторз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 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Најтежи степен, прекид континуита лиг., каспуле и неких вас.елемената. Потпуни губитак функције. Клинички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      </a:t>
            </a:r>
            <a:r>
              <a:rPr b="0" lang="sr-CS" sz="2000" spc="-1" strike="noStrike">
                <a:solidFill>
                  <a:srgbClr val="002060"/>
                </a:solidFill>
                <a:latin typeface="Tahoma"/>
                <a:ea typeface="Arial"/>
              </a:rPr>
              <a:t>Нефиз.положај зглоба, оток, хематом, бол, без активних покрета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2T19:05:50Z</dcterms:modified>
  <cp:revision>959</cp:revision>
  <dc:subject/>
  <dc:title>Rehabilitacija traumatoloških bolesnika</dc:title>
</cp:coreProperties>
</file>